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9BBC-78F8-4B2E-A04D-000AC0E8C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002C-6F19-48AA-B916-D2B5CA87D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E2F7-29C7-46B7-BF89-C4BC58D31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F66B-58C4-42B7-ADF2-A14259529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FF40-0466-4E5E-BB03-F851E1EDA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B7EC-DD67-4EE4-9F7E-99F13A4FF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C0AB-7298-46C4-A714-EB0F07326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B084-09A9-4C29-88C2-A04AB4E04B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BE14-34B2-4C8D-ABAF-894ECE7E45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1077-D086-4BC0-AA38-7F7AB17CDF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A21D-F7EE-40DB-AC36-31F0A5B0B7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C8494-24B0-4858-9B48-DCD13816E7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0519-769C-4899-9A70-2C5C9E7B52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B145-2CBF-41C3-822A-5217B1E3C8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5DA8-27FC-4055-9250-ACE8361A59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4FF0-827E-4176-ABEC-2DA84BFF9E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E1A6-9AE9-4B2E-957D-59B17198C2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140AE-3C06-4281-9E70-66CADB9964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9F09-2ABC-4D2A-B4DE-45D8FB7F71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9C102-9F64-4AE9-BCFF-9A8967AB0D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123C-068E-4A3A-B2D9-DB811D3181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1377-AF5B-4974-ABAE-DA765C2B2B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A8C9-FBF8-493F-92E0-382E6600CFD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49E3-E2A3-439B-AF71-B66EC4F4B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D7FC-853A-488E-A80D-2AAB0309A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8A17-9025-48C5-824E-5F9FDD30D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F0AE-7E7B-44E7-AB2E-F598CAFBD5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2292-5766-4E01-9214-E343BC98D3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Year 1 Overvie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52120" y="35812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936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36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Coordinat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Review and Planning Meeting Tamale, Ghana, 23-25 October 2012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ir: IITA (R. Asiedu, Regional Director West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ordinator, serves as Secretary (I. Hoeschle-Zeled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hief Scientist (A. Larbi, II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M&amp;E Lead (IFP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mmunications Lead (K. Lopez, II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partners: CGIAR (1 rotational [ICRISAT]), CORAF (E. Asiedu), CSIR (A. Salifu), AGRA (K. Makind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Activity Manager (J. Glo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mbersh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4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unication Strategy and Tool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iki page, website , image and document 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gram Log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gram Document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ssembly of  all strategic docu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ogram con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urpose, objectives, outco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uiding principles and conceptual framewor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earch desig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og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&amp;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mmunication strate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nagement structu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ther strategic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362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inspect bilateral and multilateral food security programs in norther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 by SARI Director and Africa RISING chief scient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t of demonstration trails of drought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rig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lerant maize; rice seed multiplication and varietal t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ons with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7 August: Visit US Congressional Staf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3" descr="C:\Users\izeledon\AppData\Local\Microsoft\Windows\Temporary Internet Files\Content.Outlook\QKSXL9TR\P8160321.JPG"/>
          <p:cNvPicPr/>
          <p:nvPr/>
        </p:nvPicPr>
        <p:blipFill>
          <a:blip r:embed="rId1"/>
          <a:stretch/>
        </p:blipFill>
        <p:spPr>
          <a:xfrm>
            <a:off x="6588000" y="4869000"/>
            <a:ext cx="2297160" cy="17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C:\Users\izeledon\AppData\Local\Microsoft\Windows\Temporary Internet Files\Content.Outlook\QKSXL9TR\P8160360.JPG"/>
          <p:cNvPicPr/>
          <p:nvPr/>
        </p:nvPicPr>
        <p:blipFill>
          <a:blip r:embed="rId2"/>
          <a:stretch/>
        </p:blipFill>
        <p:spPr>
          <a:xfrm>
            <a:off x="4067280" y="4869000"/>
            <a:ext cx="2162160" cy="1782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:\Users\izeledon\AppData\Local\Microsoft\Windows\Temporary Internet Files\Content.Outlook\QKSXL9TR\DSCN6800.JPG"/>
          <p:cNvPicPr/>
          <p:nvPr/>
        </p:nvPicPr>
        <p:blipFill>
          <a:blip r:embed="rId3"/>
          <a:stretch/>
        </p:blipFill>
        <p:spPr>
          <a:xfrm>
            <a:off x="826920" y="5084640"/>
            <a:ext cx="23050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15084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t. 2011: Brain storming meeting; agreement  on countries and regions: UER, UWR, NR [Ghana], Sikasso [Mali];  agreement on key farming system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15084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v./Dec. 2011: Development of Concept Note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farming systems: sorghum-, maize-, rice-based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150840">
              <a:spcBef>
                <a:spcPts val="7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an. 2012: Inception workshop Tamale: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+/- agreement on objectives, outcomes, outputs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firmation of regions and farming systems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eed for a thorough research framework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ast track workplan building on existing work to produce results by September 2012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1576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eb. 2012: First disbursement of funds to AfricaRice and ICRISAT; recruitment of systems agronomist; in ESA decision on program approach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1576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rch: Stakeholder workshop  for site selection in Ghana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 districts/region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 communities/distric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1576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ril 2012: set up of Project office in Tamale; recruitment of admin staff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1576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1576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y: Community analysis in Ghana;  Community Action Pla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trict stratification and characterization (rainfall, elevation, population, market access) by IFP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une 2012: development and summission of joint workplan; sub-agreements with partners; disbursement of fund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inuously: Strategic Program documents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39640" y="1196640"/>
            <a:ext cx="47530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Calibri"/>
              </a:rPr>
              <a:t>Sub-Agreements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87280" y="2060640"/>
          <a:ext cx="6121440" cy="4540320"/>
        </p:xfrm>
        <a:graphic>
          <a:graphicData uri="http://schemas.openxmlformats.org/drawingml/2006/table">
            <a:tbl>
              <a:tblPr/>
              <a:tblGrid>
                <a:gridCol w="3097440"/>
                <a:gridCol w="3024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it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solidFill>
                      <a:srgbClr val="ec82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solidFill>
                      <a:srgbClr val="ec821c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U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W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00,6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I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54,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ca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9,8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ric to be applicable across all three Africa RISING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exible to allow site specific 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gram Research Framework Task Force initiated by Jerry Glover, USAID, and coordinated CIMMY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shop in July in Ibadan, Nigeria, to advance dr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d, presented l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Research frame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d by IFP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shop in Addis Ababa in Septe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quires finalization of site selection process and research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tus presented l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&amp;E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rogram Management 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C:\Users\gbright\Desktop\AfricaRISING program.jpg"/>
          <p:cNvPicPr/>
          <p:nvPr/>
        </p:nvPicPr>
        <p:blipFill>
          <a:blip r:embed="rId1"/>
          <a:stretch/>
        </p:blipFill>
        <p:spPr>
          <a:xfrm>
            <a:off x="611280" y="2133720"/>
            <a:ext cx="808020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214560">
              <a:spcBef>
                <a:spcPts val="45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advice and oversight on Project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1456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science guidance to Project implementers to ensure conformity with Program Research Framework and Program  Obj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1456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ides Project planning and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1456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ves annual Project workplan and bu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1456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sees coordination between project components and 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1456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aises with MET to oversee M&amp;E; cc PCT on all report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1456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PCT informed of activities via the Project 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s and makes suggestions to Project Coordinator on semiannual technical progress reports to US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s yearly stakeholder meetings with support from Program Communications Te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cisions made by consensu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ets annually in personal and virtually as called by the Cha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A Steering Committee 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24T10:05:54Z</dcterms:modified>
  <cp:revision>17</cp:revision>
  <dc:subject/>
  <dc:title>Slide 1</dc:title>
</cp:coreProperties>
</file>